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F17-FF0C-4F27-B636-64D7797F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17B-706C-48F1-A4A1-BD3AE6A4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149-4422-485D-A32B-2DEF22AE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7F9-05E4-43E1-AF47-BAAA64F3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CED-0B0E-4E74-81D3-91924775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7E2-8B4E-4C43-884E-3CF2192A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46A-4206-40A7-8DCE-9D130B53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A99-8025-47C3-8083-71A6EEBB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222-B7BE-4C61-A245-B218FAB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F17-8EF2-46A5-BFE1-8637652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D26-56E3-4796-90ED-43D9EFA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7F6-3B24-4A82-A8B9-AF41FC7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44F5-1124-4AB7-A7AF-3FD1B9B16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77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01Z</dcterms:modified>
  <cp:revision>207</cp:revision>
  <dc:subject/>
  <dc:title>Slide 1</dc:title>
</cp:coreProperties>
</file>